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98A-0937-4B40-B0D0-9E514588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4AA-45E9-4B0D-9B37-D630E87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13A-C3FB-4EE4-82AB-71A99619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46A-A9A1-41E3-8920-4371C9C3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045-D594-4778-B7A0-A5881636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FB0-981B-43D8-BC9A-52AC8F55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217-3007-4EA0-814C-4106D695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1CE-393C-48D0-8F68-C4574D73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086-D6BC-4C7B-B212-AA9B48A8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EA7-CEFE-4206-8DB3-D11F1BA0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7F6-3FCD-4530-979C-2BB68181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EEA-56BB-45DA-9716-814FFA7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7425-409C-4339-9EA8-6E8145DD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260280"/>
            <a:ext cx="81532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son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dnesday 15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Septe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Methods of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thods of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 of training you use must be appropriate to a number of factors relating to your performance.  List thes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3 minutes to complete this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Trai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method of training you must know the following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spect of fitness it impr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appropriate for you to use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method is carri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method is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you need to use the method for to impr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trai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volves running at a constant speed for a minimum of 20 minutes at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70 – 85% of your maximum heart rat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raining can take place in any environment, e.g. hockey pitch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r CRE improves, the distance you can cover in a set time should increa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improve your performance further you should gradually increase the length of time you work f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620640"/>
            <a:ext cx="79214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rove CRE you must train at an intensit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– 85% of your heart rate m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 – 15 = 203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% of 203 = 142.1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% of 204 = 172.55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ining Zone for a 15yr old in order to improve CRE is = 142 – 173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836640"/>
            <a:ext cx="7848360" cy="84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artlek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s CRE and Speed End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Swedish term meaning ‘speed play’.  It can take a variety of different forms including varying pace or level of ter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nvolves running for a period of time at different speeds (or levels).  These speeds can include:  walking, jogging, ½ pace running, ¾ pace running and s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rtlek session should last at least 20mi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can we monitor training zone when using Fartlek trai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 du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 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fully and includ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with highlighted words/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 introductory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 From your chosen activity, identify an aspect of fitness that you needed to improve.  Describe a method of training that you used to develop this aspect of fi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18:23Z</dcterms:created>
  <dc:creator>hamiltonp</dc:creator>
  <dc:description/>
  <dc:language>en-US</dc:language>
  <cp:lastModifiedBy>hamiltonp</cp:lastModifiedBy>
  <dcterms:modified xsi:type="dcterms:W3CDTF">2010-09-10T14:11:08Z</dcterms:modified>
  <cp:revision>6</cp:revision>
  <dc:subject/>
  <dc:title>Lesson 2</dc:title>
</cp:coreProperties>
</file>